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9BBE-FF5A-42D4-8AAC-9AEDE0C5F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9F89-E999-476E-A0A1-DF805C188C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EA28-A91F-4392-BA42-17E105B68C1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515F-5788-4894-8EA9-E2C9732EAB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9767-18D5-4AC1-B1AF-4E84457C66C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BAD8-E200-40B3-AE1D-365F19E24E6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1114-234B-4155-9933-2555EFBF64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F378-AC7D-4F46-89E7-A63D285F7F2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B86C-3E30-4BFD-BF1E-60BFC0D300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A1A4-9557-4A7F-8892-1AB5BE9292B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F935-9D37-4D07-B46C-3C7EA55A9F4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4F48-45FB-4F7C-B6AD-D865A51706B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7666-D349-4828-9D0A-052B9708471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3706-E20B-40D6-A715-039DB86D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4AD-5CEA-4161-A705-FFD63A53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CF8-2097-4633-98BF-9D152116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E9C-0D65-4F89-A317-A6D92F86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479-AFEB-4C11-9069-F2E1667E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EB0-584D-4573-8F94-A7595E5E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D3C-C9FA-43A8-9F67-81758117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0DD-93CE-4373-AC3D-F260BB10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90B-5C3F-4983-AF1D-B94C6777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3F4-5EA5-401A-B10C-236698B1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910-F2B3-4502-A3DF-417D9A11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F29-B229-49D1-B229-729F3187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04E3-FF83-42FA-85BF-7F964FC11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20680" y="73080"/>
            <a:ext cx="8672400" cy="691920"/>
          </a:xfrm>
          <a:prstGeom prst="rect">
            <a:avLst/>
          </a:prstGeom>
          <a:solidFill>
            <a:srgbClr val="92d05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34800" y="6097680"/>
            <a:ext cx="8558280" cy="43632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cc"/>
                </a:solidFill>
                <a:latin typeface="Times New Roman"/>
                <a:ea typeface="Calibri"/>
              </a:rPr>
              <a:t>МОНИТОРИНГ КАЧЕСТВА ДОШКОЛЬНОГО ОБРАЗОВАНИЯ В 2021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784600" y="61920"/>
            <a:ext cx="3071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50920" y="749160"/>
            <a:ext cx="849780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оценка качества дошкольного образования и услуг по присмотру и уходу за воспитанниками и обеспечивающей их деятельности ДОО 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окументации ДОО с использованием электронной формы «Внутренняя оценка качества документации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реализуемых в ДОО образовательных программ с использованием электронной формы «Внутренняя оценка качества образовательных программ ДОО", в том числе оценку ООП ДО, ОП ДО, АООП ДО, АОП ДО и других 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представления информации на официальном интернет-сайте организации с использованием электронной формы «Внутренняя оценка качества представления информации на интернет-сайте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образовательной деятельности и качество присмотра и ухода за воспитанниками в группах ДОО с использованием инструментария МКДО — Шкал комплексного мониторинга качества дошкольного образования детей от 2 месяцев до 7 лет (Шкал МКДО 0-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еятельности ДОО в целом, включая качество образовательной деятельности и качество присмотра и ухода за всеми воспитанниками ДОО, обеспечение условий для их реализации, эффективности управления и развитие организации в целом с использованием Шкал МКДО 0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395280" y="874800"/>
            <a:ext cx="7993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дошкольного образования в ДО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и / законными представителями воспитанников ДОО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взаимодействия ДОО с родителями / законными представителями воспитанников ДОО (вовлеченности родителей в образовательную деятельность ДО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ую оценку удовлетворенности родителей качеством работы ДОО в разрезе областей качества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95280" y="3429000"/>
            <a:ext cx="799308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независимой оценки качества дошкольного образования в ДОО проводи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на анонимной осно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 использованием единой информационной платформы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независимой оценки качества дошкольного образования путем опроса родителей / законных представителей обучающихся ДО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фор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кета родителей / законных представителей воспитанника ДОО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чет о результатах независимой оценки качества дошкольного образования ДО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66760" y="1484280"/>
            <a:ext cx="579600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я оценк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довлетворенности качеством образовательной деятельности ДОО в разрезе областей качества МКДО предложены 6 уровн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евой уро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. Требуется серьезная работа по повышению качеств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. Качество стремится к базовом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уровень. Базов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уровень. Хороше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й уровень. Превосходно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6329520" y="3322800"/>
            <a:ext cx="28144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84360" y="1916280"/>
            <a:ext cx="66243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экспертный мониторинг предусматривает 3 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 - дистанционны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 - выездно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 - формирование экспертного отч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7629480" y="4199040"/>
            <a:ext cx="1305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250920" y="1176480"/>
            <a:ext cx="842472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ы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, обработку и структурированный анализ информации о деятельности ДОО, размещенной в открытом доступе на официальном сайте организац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тчета о внутренней оценке качества дошкольного образования и услуг по присмотру и уходу за воспитанниками ДОО, размещенного на единой информационной платформе МКДО 2021, а также Отчета о самообследовании ДОО, размещенного на официальном сайте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ный анализ и оценивание качества документации ДОО в разрезе областей и показателей качества МКД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ервой документальной части отчета о результатах экспертного мониторинга качества деятельност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к проведению выездного экспертного мониторинга с использованием Шкал МКДО, составление плана выездного экспертного монитор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324000" y="1190520"/>
            <a:ext cx="835164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о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труктурированного экспертного наблюдения за реализацией образовательной деятельности и деятельности по присмотру и уходу в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нализ информации о деятельности ДОО, полученной в ходе структурированного экспертного наблюдения за реализацией образовательной деятельности с использованием Шкал МКДО;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наблюдения за деятельностью ДОО в цел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наблюдения за деятельностью ДОО в целом, оценивание качества наблюдаемой деятельности ДОО с использованием Шкал МКДО на основе системы показателей МК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468360" y="1190520"/>
            <a:ext cx="820728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спертного отчета предусматривает: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варительного экспертного отчета о качестве дошкольного образования и деятельности по присмотру и уходу за воспитанниками ДОО по итогам дистанционного и выездного экспертного мониторинг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обратной связи ДОО о результатах экспертного мониторинга, обсуждение предварительного экспертного отчета с руководителем ДОО, координатором МКДО в ДОО, а также коллективом ДОО в случае необходим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аботку экспертного отчета по результатам его обсуждения с сотрудникам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"Итогового экспертного отчета о качестве дошкольного образования и деятельности по присмотру и уходу за воспитанниками ДОО" на единой информационной платформе МКДО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100080" y="979560"/>
            <a:ext cx="1515960" cy="2184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3"/>
          <a:stretch/>
        </p:blipFill>
        <p:spPr>
          <a:xfrm>
            <a:off x="1060560" y="977760"/>
            <a:ext cx="1301760" cy="2184480"/>
          </a:xfrm>
          <a:prstGeom prst="rect">
            <a:avLst/>
          </a:prstGeom>
          <a:ln w="0">
            <a:noFill/>
          </a:ln>
        </p:spPr>
      </p:pic>
      <p:pic>
        <p:nvPicPr>
          <p:cNvPr id="99" name="Схема 9" descr=""/>
          <p:cNvPicPr/>
          <p:nvPr/>
        </p:nvPicPr>
        <p:blipFill>
          <a:blip r:embed="rId4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0"/>
          <p:cNvSpPr/>
          <p:nvPr/>
        </p:nvSpPr>
        <p:spPr>
          <a:xfrm>
            <a:off x="179280" y="3429000"/>
            <a:ext cx="1944720" cy="1130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ПЕДАГОГИ ДОУ Результаты самооценки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2"/>
          <a:stretch/>
        </p:blipFill>
        <p:spPr>
          <a:xfrm>
            <a:off x="501480" y="993600"/>
            <a:ext cx="1300320" cy="218304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9" descr=""/>
          <p:cNvPicPr/>
          <p:nvPr/>
        </p:nvPicPr>
        <p:blipFill>
          <a:blip r:embed="rId3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179280" y="3429000"/>
            <a:ext cx="1944720" cy="13899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ЭКСПЕРТ ДОУ Результаты оценки эксперта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2"/>
          <a:stretch/>
        </p:blipFill>
        <p:spPr>
          <a:xfrm>
            <a:off x="-42840" y="-243000"/>
            <a:ext cx="9144000" cy="646596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4" descr=""/>
          <p:cNvPicPr/>
          <p:nvPr/>
        </p:nvPicPr>
        <p:blipFill>
          <a:blip r:embed="rId3"/>
          <a:stretch/>
        </p:blipFill>
        <p:spPr>
          <a:xfrm>
            <a:off x="122400" y="4535640"/>
            <a:ext cx="88200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549360" y="476280"/>
            <a:ext cx="80452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8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706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-115920" y="633240"/>
            <a:ext cx="4730760" cy="420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4529160" y="652320"/>
            <a:ext cx="46753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95280" y="80028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ор ДОО - Сбор контекстной информации предусматри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реализации образовательной деятельности и деятельности по присмотру и уходу с занесением ее в электронную форму "Профиль ДОО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контексте и характеристиках профессиональной деятельности педагогов ДОО с занесением ее в "Анкету педагога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79280" y="201312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педагогов предусматр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амостоятельной оценки уровня своей квалификации и качества педагогической работы с использованием "Листа самооценки педагога ДОО", построенного на основе системы показателей качества МКДО 20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данных и формирование сводного отчета по педагогическим работникам ДОО "Отчет о самооценке педагогов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684360" y="3029040"/>
            <a:ext cx="7846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748200" cy="3795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8569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1T03:44:39Z</dcterms:created>
  <dc:creator>Пользователь</dc:creator>
  <dc:description/>
  <dc:language>en-US</dc:language>
  <cp:lastModifiedBy>User</cp:lastModifiedBy>
  <dcterms:modified xsi:type="dcterms:W3CDTF">2021-10-26T05:40:57Z</dcterms:modified>
  <cp:revision>291</cp:revision>
  <dc:subject/>
  <dc:title>Презентация PowerPoint</dc:title>
</cp:coreProperties>
</file>