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FDF0-8750-4706-AEAC-FA43B0A7EA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A924-AFD8-4BCD-BB55-38F9075907C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7081-0A2B-47B7-A2C1-4D3C051203A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15EC-4771-48A0-A31D-F232150D80D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6316-1331-46F2-9859-0CB43B7C559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5A3E-580C-4559-AE81-503DF344EF3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ECA5-D4BF-4A90-8685-B2B8652B327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500D-ABA3-4BC7-93AF-AC12E6F38C9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F59C-C761-4D4D-A082-CB86A9662C2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2549-F5EA-49CC-97C6-BBA9786E964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2779-0380-438C-8500-4859F3AF118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22E7-3AF1-412E-837F-C82F75A23C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E3A6-726D-458E-8C93-E3A9BAEDFDD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CF9-AADD-4B22-A758-9DBDD619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5F4-D46B-4285-854D-E59B170C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A53-3823-4E9C-8A38-B63359B1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112-687E-4D8A-9F12-A8361588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AB2-909D-4350-9120-1AD01BC8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0BA-87C3-4CA8-9B58-274AE5CD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8B4-DFFD-4B1A-BD56-09B21E94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B86-CA07-4FD4-872A-A50B2D40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75B-1376-41C9-A9F5-967EC8E3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071-7DE5-4DEC-AF49-E54AA2BB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388-10CF-4DB2-BF02-58132EA2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04A-C247-4A6A-811E-ED3DB62A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71D4-C387-41F0-9376-221C8CA15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220680" y="73080"/>
            <a:ext cx="8672400" cy="691920"/>
          </a:xfrm>
          <a:prstGeom prst="rect">
            <a:avLst/>
          </a:prstGeom>
          <a:solidFill>
            <a:srgbClr val="92d05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334800" y="6097680"/>
            <a:ext cx="8558280" cy="43632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640" y="2130120"/>
            <a:ext cx="87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cc"/>
                </a:solidFill>
                <a:latin typeface="Times New Roman"/>
                <a:ea typeface="Calibri"/>
              </a:rPr>
              <a:t>МОНИТОРИНГ КАЧЕСТВА ДОШКОЛЬНОГО ОБРАЗОВАНИЯ В 2021 Г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2784600" y="61920"/>
            <a:ext cx="30715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250920" y="749160"/>
            <a:ext cx="8497800" cy="558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оценка качества дошкольного образования и услуг по присмотру и уходу за воспитанниками и обеспечивающей их деятельности ДОО предусматри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документации ДОО с использованием электронной формы «Внутренняя оценка качества документации ДОО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реализуемых в ДОО образовательных программ с использованием электронной формы «Внутренняя оценка качества образовательных программ ДОО", в том числе оценку ООП ДО, ОП ДО, АООП ДО, АОП ДО и других образовательных програ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представления информации на официальном интернет-сайте организации с использованием электронной формы «Внутренняя оценка качества представления информации на интернет-сайте ДОО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образовательной деятельности и качество присмотра и ухода за воспитанниками в группах ДОО с использованием инструментария МКДО — Шкал комплексного мониторинга качества дошкольного образования детей от 2 месяцев до 7 лет (Шкал МКДО 0-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деятельности ДОО в целом, включая качество образовательной деятельности и качество присмотра и ухода за всеми воспитанниками ДОО, обеспечение условий для их реализации, эффективности управления и развитие организации в целом с использованием Шкал МКДО 0-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395280" y="874800"/>
            <a:ext cx="79930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дошкольного образования в ДО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и / законными представителями воспитанников ДОО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взаимодействия ДОО с родителями / законными представителями воспитанников ДОО (вовлеченности родителей в образовательную деятельность ДО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ую оценку удовлетворенности родителей качеством работы ДОО в разрезе областей качества МКД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395280" y="3429000"/>
            <a:ext cx="799308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независимой оценки качества дошкольного образования в ДОО проводится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родителей на анонимной осно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 использованием единой информационной платформы МКД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независимой оценки качества дошкольного образования путем опроса родителей / законных представителей обучающихся ДОО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фор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электронная форм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нкета родителей / законных представителей воспитанника ДОО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электронная форм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чет о результатах независимой оценки качества дошкольного образования ДО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266760" y="1484280"/>
            <a:ext cx="579600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ля оценк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удовлетворенности качеством образовательной деятельности ДОО в разрезе областей качества МКДО предложены 6 уровн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евой уро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уровень. Требуется серьезная работа по повышению качеств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уровень. Качество стремится к базовому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уровень. Базовы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й уровень. Хорошее ка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й уровень. Превосходное ка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6329520" y="3322800"/>
            <a:ext cx="281448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684360" y="1916280"/>
            <a:ext cx="662436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 экспертный мониторинг предусматривает 3 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этап - дистанционный экспертн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этап - выездной экспертн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этап - формирование экспертного отч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2"/>
          <a:stretch/>
        </p:blipFill>
        <p:spPr>
          <a:xfrm>
            <a:off x="7629480" y="4199040"/>
            <a:ext cx="1305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250920" y="1176480"/>
            <a:ext cx="8424720" cy="41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ый экспертный мониторинг включает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, обработку и структурированный анализ информации о деятельности ДОО, размещенной в открытом доступе на официальном сайте организац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тчета о внутренней оценке качества дошкольного образования и услуг по присмотру и уходу за воспитанниками ДОО, размещенного на единой информационной платформе МКДО 2021, а также Отчета о самообследовании ДОО, размещенного на официальном сайте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рованный анализ и оценивание качества документации ДОО в разрезе областей и показателей качества МКД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ервой документальной части отчета о результатах экспертного мониторинга качества деятельност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у к проведению выездного экспертного мониторинга с использованием Шкал МКДО, составление плана выездного экспертного мониторинг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324000" y="1190520"/>
            <a:ext cx="8351640" cy="41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ой экспертный мониторинг включает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труктурированного экспертного наблюдения за реализацией образовательной деятельности и деятельности по присмотру и уходу в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нализ информации о деятельности ДОО, полученной в ходе структурированного экспертного наблюдения за реализацией образовательной деятельности с использованием Шкал МКДО;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 экспертного опроса сотрудников и администраци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у и структурированный анализ информации о деятельности ДОО, полученной в ходе экспертного опроса сотрудников и администраци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 экспертного наблюдения за деятельностью ДОО в цел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у и структурированный анализ информации о деятельности ДОО, полученной в ходе экспертного наблюдения за деятельностью ДОО в целом, оценивание качества наблюдаемой деятельности ДОО с использованием Шкал МКДО на основе системы показателей МКД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468360" y="1190520"/>
            <a:ext cx="8207280" cy="41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кспертного отчета предусматривает: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едварительного экспертного отчета о качестве дошкольного образования и деятельности по присмотру и уходу за воспитанниками ДОО по итогам дистанционного и выездного экспертного мониторинг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обратной связи ДОО о результатах экспертного мониторинга, обсуждение предварительного экспертного отчета с руководителем ДОО, координатором МКДО в ДОО, а также коллективом ДОО в случае необходим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аботку экспертного отчета по результатам его обсуждения с сотрудникам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"Итогового экспертного отчета о качестве дошкольного образования и деятельности по присмотру и уходу за воспитанниками ДОО" на единой информационной платформе МКДО.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редний балл –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"/>
          <p:cNvPicPr/>
          <p:nvPr/>
        </p:nvPicPr>
        <p:blipFill>
          <a:blip r:embed="rId2"/>
          <a:stretch/>
        </p:blipFill>
        <p:spPr>
          <a:xfrm>
            <a:off x="100080" y="979560"/>
            <a:ext cx="1515960" cy="2184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"/>
          <p:cNvPicPr/>
          <p:nvPr/>
        </p:nvPicPr>
        <p:blipFill>
          <a:blip r:embed="rId3"/>
          <a:stretch/>
        </p:blipFill>
        <p:spPr>
          <a:xfrm>
            <a:off x="1060560" y="977760"/>
            <a:ext cx="1301760" cy="2184480"/>
          </a:xfrm>
          <a:prstGeom prst="rect">
            <a:avLst/>
          </a:prstGeom>
          <a:ln w="0">
            <a:noFill/>
          </a:ln>
        </p:spPr>
      </p:pic>
      <p:pic>
        <p:nvPicPr>
          <p:cNvPr id="99" name="Схема 9" descr=""/>
          <p:cNvPicPr/>
          <p:nvPr/>
        </p:nvPicPr>
        <p:blipFill>
          <a:blip r:embed="rId4"/>
          <a:stretch/>
        </p:blipFill>
        <p:spPr>
          <a:xfrm>
            <a:off x="2328840" y="762120"/>
            <a:ext cx="6686640" cy="53337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0"/>
          <p:cNvSpPr/>
          <p:nvPr/>
        </p:nvSpPr>
        <p:spPr>
          <a:xfrm>
            <a:off x="179280" y="3429000"/>
            <a:ext cx="1944720" cy="11307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ПЕДАГОГИ ДОУ Результаты самооценки ДОО (средний бал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редний балл – 3,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"/>
          <p:cNvPicPr/>
          <p:nvPr/>
        </p:nvPicPr>
        <p:blipFill>
          <a:blip r:embed="rId2"/>
          <a:stretch/>
        </p:blipFill>
        <p:spPr>
          <a:xfrm>
            <a:off x="501480" y="993600"/>
            <a:ext cx="1300320" cy="2183040"/>
          </a:xfrm>
          <a:prstGeom prst="rect">
            <a:avLst/>
          </a:prstGeom>
          <a:ln w="0">
            <a:noFill/>
          </a:ln>
        </p:spPr>
      </p:pic>
      <p:pic>
        <p:nvPicPr>
          <p:cNvPr id="104" name="Схема 9" descr=""/>
          <p:cNvPicPr/>
          <p:nvPr/>
        </p:nvPicPr>
        <p:blipFill>
          <a:blip r:embed="rId3"/>
          <a:stretch/>
        </p:blipFill>
        <p:spPr>
          <a:xfrm>
            <a:off x="2328840" y="762120"/>
            <a:ext cx="6686640" cy="53337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179280" y="3429000"/>
            <a:ext cx="1944720" cy="13899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ЭКСПЕРТ ДОУ Результаты оценки эксперта ДОО (средний бал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"/>
          <p:cNvPicPr/>
          <p:nvPr/>
        </p:nvPicPr>
        <p:blipFill>
          <a:blip r:embed="rId2"/>
          <a:stretch/>
        </p:blipFill>
        <p:spPr>
          <a:xfrm>
            <a:off x="-42840" y="-243000"/>
            <a:ext cx="9144000" cy="6465960"/>
          </a:xfrm>
          <a:prstGeom prst="rect">
            <a:avLst/>
          </a:prstGeom>
          <a:ln w="0">
            <a:noFill/>
          </a:ln>
        </p:spPr>
      </p:pic>
      <p:pic>
        <p:nvPicPr>
          <p:cNvPr id="55" name="Схема 4" descr=""/>
          <p:cNvPicPr/>
          <p:nvPr/>
        </p:nvPicPr>
        <p:blipFill>
          <a:blip r:embed="rId3"/>
          <a:stretch/>
        </p:blipFill>
        <p:spPr>
          <a:xfrm>
            <a:off x="122400" y="4535640"/>
            <a:ext cx="88200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549360" y="476280"/>
            <a:ext cx="80452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8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706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-115920" y="633240"/>
            <a:ext cx="4730760" cy="4206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>
            <a:off x="4529160" y="652320"/>
            <a:ext cx="467532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95280" y="800280"/>
            <a:ext cx="8136000" cy="100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ор ДОО - Сбор контекстной информации предусматрив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 структурирование информации о реализации образовательной деятельности и деятельности по присмотру и уходу с занесением ее в электронную форму "Профиль ДОО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 структурирование информации о контексте и характеристиках профессиональной деятельности педагогов ДОО с занесением ее в "Анкету педагога ДОО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79280" y="2013120"/>
            <a:ext cx="8136000" cy="100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педагогов предусматр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амостоятельной оценки уровня своей квалификации и качества педагогической работы с использованием "Листа самооценки педагога ДОО", построенного на основе системы показателей качества МКДО 20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у данных и формирование сводного отчета по педагогическим работникам ДОО "Отчет о самооценке педагогов ДОО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2"/>
          <a:stretch/>
        </p:blipFill>
        <p:spPr>
          <a:xfrm>
            <a:off x="684360" y="3029040"/>
            <a:ext cx="78469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748200" cy="37958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85690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1T03:44:39Z</dcterms:created>
  <dc:creator>Пользователь</dc:creator>
  <dc:description/>
  <dc:language>en-US</dc:language>
  <cp:lastModifiedBy>User</cp:lastModifiedBy>
  <dcterms:modified xsi:type="dcterms:W3CDTF">2021-10-26T05:40:57Z</dcterms:modified>
  <cp:revision>291</cp:revision>
  <dc:subject/>
  <dc:title>Презентация PowerPoint</dc:title>
</cp:coreProperties>
</file>