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6609-F4B9-4E37-8F56-49D826234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DC66-63C3-482B-9A09-D48F5A8A6A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6FAE-B484-4CB0-9CF0-5DC9244E169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35E9-0C33-435F-9C37-9630BD21C9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63E0-E864-4D6C-8CF7-2790D76611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1932-FF10-4669-8F31-350AF699BB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F81-2706-4B86-A557-2F2E5820C8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D895-951B-4D81-954A-984F5133AC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FFE0-CEA1-42B6-AA9C-9841BC42E7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DE9-6198-43D0-BB43-54B7AD1594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7DC7-9AD4-4137-9545-3B25006539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7FA8-356D-4B84-A1BE-4ECF176FF6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39E5-40B5-4885-AC54-80C189D300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504-E7A7-4F99-8AD4-E8411AEA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356-9BCD-4EBA-9264-290AF790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958-B54E-4451-82BB-496C6EA3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B11-C111-4BD6-AD80-C3F64233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D56-ED6C-413B-B44E-CA0BD314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625-8970-4931-83D1-D18E0527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614-47AF-491A-B46A-682027E8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ECF-F8E7-4B85-B93E-D629E82F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961-8043-4C3E-997C-73034F11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5AF-50A3-47B3-B7E2-D4004F26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416-C16B-4139-8D16-0A97DB6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EA43-D371-4DBE-8C69-603EE1C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6303-DD95-4031-842B-45AD7CD2C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20680" y="73080"/>
            <a:ext cx="8672400" cy="691920"/>
          </a:xfrm>
          <a:prstGeom prst="rect">
            <a:avLst/>
          </a:prstGeom>
          <a:solidFill>
            <a:srgbClr val="92d05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34800" y="6097680"/>
            <a:ext cx="8558280" cy="43632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cc"/>
                </a:solidFill>
                <a:latin typeface="Times New Roman"/>
                <a:ea typeface="Calibri"/>
              </a:rPr>
              <a:t>МОНИТОРИНГ КАЧЕСТВА ДОШКОЛЬНОГО ОБРАЗОВАНИЯ В 2021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784600" y="61920"/>
            <a:ext cx="3071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50920" y="749160"/>
            <a:ext cx="849780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оценка качества дошкольного образования и услуг по присмотру и уходу за воспитанниками и обеспечивающей их деятельности ДОО 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окументации ДОО с использованием электронной формы «Внутренняя оценка качества документации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реализуемых в ДОО образовательных программ с использованием электронной формы «Внутренняя оценка качества образовательных программ ДОО", в том числе оценку ООП ДО, ОП ДО, АООП ДО, АОП ДО и других 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представления информации на официальном интернет-сайте организации с использованием электронной формы «Внутренняя оценка качества представления информации на интернет-сайте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образовательной деятельности и качество присмотра и ухода за воспитанниками в группах ДОО с использованием инструментария МКДО — Шкал комплексного мониторинга качества дошкольного образования детей от 2 месяцев до 7 лет (Шкал МКДО 0-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еятельности ДОО в целом, включая качество образовательной деятельности и качество присмотра и ухода за всеми воспитанниками ДОО, обеспечение условий для их реализации, эффективности управления и развитие организации в целом с использованием Шкал МКДО 0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395280" y="874800"/>
            <a:ext cx="7993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дошкольного образования в ДО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и / законными представителями воспитанников ДОО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взаимодействия ДОО с родителями / законными представителями воспитанников ДОО (вовлеченности родителей в образовательную деятельность ДО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ую оценку удовлетворенности родителей качеством работы ДОО в разрезе областей качества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95280" y="3429000"/>
            <a:ext cx="799308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независимой оценки качества дошкольного образования в ДОО проводи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на анонимной осно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 использованием единой информационной платформы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независимой оценки качества дошкольного образования путем опроса родителей / законных представителей обучающихся ДО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фор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кета родителей / законных представителей воспитанника ДОО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чет о результатах независимой оценки качества дошкольного образования ДО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66760" y="1484280"/>
            <a:ext cx="579600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я оценк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довлетворенности качеством образовательной деятельности ДОО в разрезе областей качества МКДО предложены 6 уровн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евой уро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. Требуется серьезная работа по повышению качеств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. Качество стремится к базовом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уровень. Базов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уровень. Хороше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й уровень. Превосходно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6329520" y="3322800"/>
            <a:ext cx="28144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84360" y="1916280"/>
            <a:ext cx="66243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экспертный мониторинг предусматривает 3 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 - дистанционны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 - выездно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 - формирование экспертного отч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7629480" y="4199040"/>
            <a:ext cx="1305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250920" y="1176480"/>
            <a:ext cx="842472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ы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, обработку и структурированный анализ информации о деятельности ДОО, размещенной в открытом доступе на официальном сайте организац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тчета о внутренней оценке качества дошкольного образования и услуг по присмотру и уходу за воспитанниками ДОО, размещенного на единой информационной платформе МКДО 2021, а также Отчета о самообследовании ДОО, размещенного на официальном сайте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ный анализ и оценивание качества документации ДОО в разрезе областей и показателей качества МКД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ервой документальной части отчета о результатах экспертного мониторинга качества деятельност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к проведению выездного экспертного мониторинга с использованием Шкал МКДО, составление плана выездного экспертного монитор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324000" y="1190520"/>
            <a:ext cx="835164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о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труктурированного экспертного наблюдения за реализацией образовательной деятельности и деятельности по присмотру и уходу в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нализ информации о деятельности ДОО, полученной в ходе структурированного экспертного наблюдения за реализацией образовательной деятельности с использованием Шкал МКДО;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наблюдения за деятельностью ДОО в цел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наблюдения за деятельностью ДОО в целом, оценивание качества наблюдаемой деятельности ДОО с использованием Шкал МКДО на основе системы показателей МК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468360" y="1190520"/>
            <a:ext cx="820728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спертного отчета предусматривает: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варительного экспертного отчета о качестве дошкольного образования и деятельности по присмотру и уходу за воспитанниками ДОО по итогам дистанционного и выездного экспертного мониторинг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обратной связи ДОО о результатах экспертного мониторинга, обсуждение предварительного экспертного отчета с руководителем ДОО, координатором МКДО в ДОО, а также коллективом ДОО в случае необходим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аботку экспертного отчета по результатам его обсуждения с сотрудникам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"Итогового экспертного отчета о качестве дошкольного образования и деятельности по присмотру и уходу за воспитанниками ДОО" на единой информационной платформе МКДО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100080" y="979560"/>
            <a:ext cx="1515960" cy="2184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3"/>
          <a:stretch/>
        </p:blipFill>
        <p:spPr>
          <a:xfrm>
            <a:off x="1060560" y="977760"/>
            <a:ext cx="1301760" cy="2184480"/>
          </a:xfrm>
          <a:prstGeom prst="rect">
            <a:avLst/>
          </a:prstGeom>
          <a:ln w="0">
            <a:noFill/>
          </a:ln>
        </p:spPr>
      </p:pic>
      <p:pic>
        <p:nvPicPr>
          <p:cNvPr id="99" name="Схема 9" descr=""/>
          <p:cNvPicPr/>
          <p:nvPr/>
        </p:nvPicPr>
        <p:blipFill>
          <a:blip r:embed="rId4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0"/>
          <p:cNvSpPr/>
          <p:nvPr/>
        </p:nvSpPr>
        <p:spPr>
          <a:xfrm>
            <a:off x="179280" y="3429000"/>
            <a:ext cx="1944720" cy="1130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ПЕДАГОГИ ДОУ Результаты самооценки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2"/>
          <a:stretch/>
        </p:blipFill>
        <p:spPr>
          <a:xfrm>
            <a:off x="501480" y="993600"/>
            <a:ext cx="1300320" cy="218304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9" descr=""/>
          <p:cNvPicPr/>
          <p:nvPr/>
        </p:nvPicPr>
        <p:blipFill>
          <a:blip r:embed="rId3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179280" y="3429000"/>
            <a:ext cx="1944720" cy="13899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ЭКСПЕРТ ДОУ Результаты оценки эксперта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2"/>
          <a:stretch/>
        </p:blipFill>
        <p:spPr>
          <a:xfrm>
            <a:off x="-42840" y="-243000"/>
            <a:ext cx="9144000" cy="646596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4" descr=""/>
          <p:cNvPicPr/>
          <p:nvPr/>
        </p:nvPicPr>
        <p:blipFill>
          <a:blip r:embed="rId3"/>
          <a:stretch/>
        </p:blipFill>
        <p:spPr>
          <a:xfrm>
            <a:off x="122400" y="4535640"/>
            <a:ext cx="88200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549360" y="476280"/>
            <a:ext cx="80452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8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706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-115920" y="633240"/>
            <a:ext cx="4730760" cy="420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4529160" y="652320"/>
            <a:ext cx="46753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95280" y="80028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ор ДОО - Сбор контекстной информации предусматри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реализации образовательной деятельности и деятельности по присмотру и уходу с занесением ее в электронную форму "Профиль ДОО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контексте и характеристиках профессиональной деятельности педагогов ДОО с занесением ее в "Анкету педагога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79280" y="201312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педагогов предусматр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амостоятельной оценки уровня своей квалификации и качества педагогической работы с использованием "Листа самооценки педагога ДОО", построенного на основе системы показателей качества МКДО 20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данных и формирование сводного отчета по педагогическим работникам ДОО "Отчет о самооценке педагогов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684360" y="3029040"/>
            <a:ext cx="7846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748200" cy="3795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8569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1T03:44:39Z</dcterms:created>
  <dc:creator>Пользователь</dc:creator>
  <dc:description/>
  <dc:language>en-US</dc:language>
  <cp:lastModifiedBy>User</cp:lastModifiedBy>
  <dcterms:modified xsi:type="dcterms:W3CDTF">2021-10-26T05:40:57Z</dcterms:modified>
  <cp:revision>291</cp:revision>
  <dc:subject/>
  <dc:title>Презентация PowerPoint</dc:title>
</cp:coreProperties>
</file>