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855B-859D-4C13-8493-E6A3CA7DD3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1141-7876-480D-9777-B7D2F4CD03C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F48A-BCC1-401F-A214-43872501A09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E8FD-15C0-462B-8777-F069E2B487C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354D6-8B5E-422B-B3F8-FCF1E9BFEE3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0CCD-A8C5-4334-B391-E57B1069CB4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9BE0-C5B1-4080-B612-93C1BDE07BB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1C6B7-864A-4C81-A13C-8A781C42FAC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ACDF-F9F2-461B-B154-0EC18D3676D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34B6-1E2C-49BB-A46B-47C54853DDD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4B96-2FAE-479E-8375-D5E15C43318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F6FF-94BB-484D-97C1-AC459B2EA94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0225-61C8-40E6-B273-894B6F000E6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3120-2984-4EDB-8CB2-AF603E5E2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693C-E297-45FE-AA46-FE715184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1811-11EF-4CC6-AD6A-FCBE90428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9874-3E06-4F87-A284-EDF55D35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BBC2-AD19-47BA-B840-6AD1698F1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3469-1557-4548-8B99-60628C0A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D0D4-31AA-4ADB-B6AE-FFC61350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757-DE81-4B24-9987-BE32B489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F76-DACF-48E5-A93B-39884755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F27F-982A-44D1-89FD-326B6012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9DD-468F-4C94-904E-67F1EC8C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FA4F-EF45-4461-B138-BBD4839E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71E82-C814-48A9-9556-866295FD85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220680" y="73080"/>
            <a:ext cx="8672400" cy="691920"/>
          </a:xfrm>
          <a:prstGeom prst="rect">
            <a:avLst/>
          </a:prstGeom>
          <a:solidFill>
            <a:srgbClr val="92d05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1"/>
          <p:cNvSpPr/>
          <p:nvPr/>
        </p:nvSpPr>
        <p:spPr>
          <a:xfrm>
            <a:off x="334800" y="6097680"/>
            <a:ext cx="8558280" cy="43632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640" y="2130120"/>
            <a:ext cx="878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66cc"/>
                </a:solidFill>
                <a:latin typeface="Times New Roman"/>
                <a:ea typeface="Calibri"/>
              </a:rPr>
              <a:t>МОНИТОРИНГ КАЧЕСТВА ДОШКОЛЬНОГО ОБРАЗОВАНИЯ В 2021 ГОД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2784600" y="61920"/>
            <a:ext cx="30715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250920" y="749160"/>
            <a:ext cx="8497800" cy="558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оценка качества дошкольного образования и услуг по присмотру и уходу за воспитанниками и обеспечивающей их деятельности ДОО предусматри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документации ДОО с использованием электронной формы «Внутренняя оценка качества документации ДОО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реализуемых в ДОО образовательных программ с использованием электронной формы «Внутренняя оценка качества образовательных программ ДОО", в том числе оценку ООП ДО, ОП ДО, АООП ДО, АОП ДО и других образовательных програм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представления информации на официальном интернет-сайте организации с использованием электронной формы «Внутренняя оценка качества представления информации на интернет-сайте ДОО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образовательной деятельности и качество присмотра и ухода за воспитанниками в группах ДОО с использованием инструментария МКДО — Шкал комплексного мониторинга качества дошкольного образования детей от 2 месяцев до 7 лет (Шкал МКДО 0-7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деятельности ДОО в целом, включая качество образовательной деятельности и качество присмотра и ухода за всеми воспитанниками ДОО, обеспечение условий для их реализации, эффективности управления и развитие организации в целом с использованием Шкал МКДО 0-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76" name="TextBox 1"/>
          <p:cNvSpPr/>
          <p:nvPr/>
        </p:nvSpPr>
        <p:spPr>
          <a:xfrm>
            <a:off x="395280" y="874800"/>
            <a:ext cx="79930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висимая оценка качества дошкольного образования в ДО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и / законными представителями воспитанников ДОО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сматри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у качества взаимодействия ДОО с родителями / законными представителями воспитанников ДОО (вовлеченности родителей в образовательную деятельность ДО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ую оценку удовлетворенности родителей качеством работы ДОО в разрезе областей качества МКДО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395280" y="3429000"/>
            <a:ext cx="799308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мках независимой оценки качества дошкольного образования в ДОО проводится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 родителей на анонимной основ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 использованием единой информационной платформы МКДО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дения независимой оценки качества дошкольного образования путем опроса родителей / законных представителей обучающихся ДОО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ся форм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электронная форма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нкета родителей / законных представителей воспитанника ДОО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электронная форма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чет о результатах независимой оценки качества дошкольного образования ДО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266760" y="1484280"/>
            <a:ext cx="579600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для оценки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и удовлетворенности качеством образовательной деятельности ДОО в разрезе областей качества МКДО предложены 6 уровн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евой урове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уровень. Требуется серьезная работа по повышению качества.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уровень. Качество стремится к базовому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уровень. Базовы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й уровень. Хорошее ка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-й уровень. Превосходное каче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2" descr=""/>
          <p:cNvPicPr/>
          <p:nvPr/>
        </p:nvPicPr>
        <p:blipFill>
          <a:blip r:embed="rId2"/>
          <a:stretch/>
        </p:blipFill>
        <p:spPr>
          <a:xfrm>
            <a:off x="6329520" y="3322800"/>
            <a:ext cx="281448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1"/>
          <p:cNvSpPr/>
          <p:nvPr/>
        </p:nvSpPr>
        <p:spPr>
          <a:xfrm>
            <a:off x="684360" y="1916280"/>
            <a:ext cx="6624360" cy="28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й экспертный мониторинг предусматривает 3 этап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й этап - дистанционный экспертный мониторин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й этап - выездной экспертный мониторинг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-й этап - формирование экспертного отч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Рисунок 2" descr=""/>
          <p:cNvPicPr/>
          <p:nvPr/>
        </p:nvPicPr>
        <p:blipFill>
          <a:blip r:embed="rId2"/>
          <a:stretch/>
        </p:blipFill>
        <p:spPr>
          <a:xfrm>
            <a:off x="7629480" y="4199040"/>
            <a:ext cx="1305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250920" y="1176480"/>
            <a:ext cx="8424720" cy="41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ионный экспертный мониторинг включает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, обработку и структурированный анализ информации о деятельности ДОО, размещенной в открытом доступе на официальном сайте организаци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Отчета о внутренней оценке качества дошкольного образования и услуг по присмотру и уходу за воспитанниками ДОО, размещенного на единой информационной платформе МКДО 2021, а также Отчета о самообследовании ДОО, размещенного на официальном сайте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рованный анализ и оценивание качества документации ДОО в разрезе областей и показателей качества МКД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ервой документальной части отчета о результатах экспертного мониторинга качества деятельности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у к проведению выездного экспертного мониторинга с использованием Шкал МКДО, составление плана выездного экспертного мониторинг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324000" y="1190520"/>
            <a:ext cx="8351640" cy="41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ездной экспертный мониторинг включает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труктурированного экспертного наблюдения за реализацией образовательной деятельности и деятельности по присмотру и уходу в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нализ информации о деятельности ДОО, полученной в ходе структурированного экспертного наблюдения за реализацией образовательной деятельности с использованием Шкал МКДО;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 экспертного опроса сотрудников и администрации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у и структурированный анализ информации о деятельности ДОО, полученной в ходе экспертного опроса сотрудников и администрации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 экспертного наблюдения за деятельностью ДОО в цело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у и структурированный анализ информации о деятельности ДОО, полученной в ходе экспертного наблюдения за деятельностью ДОО в целом, оценивание качества наблюдаемой деятельности ДОО с использованием Шкал МКДО на основе системы показателей МКДО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468360" y="1190520"/>
            <a:ext cx="8207280" cy="41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кспертного отчета предусматривает: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редварительного экспертного отчета о качестве дошкольного образования и деятельности по присмотру и уходу за воспитанниками ДОО по итогам дистанционного и выездного экспертного мониторинг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ение обратной связи ДОО о результатах экспертного мониторинга, обсуждение предварительного экспертного отчета с руководителем ДОО, координатором МКДО в ДОО, а также коллективом ДОО в случае необходимост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аботку экспертного отчета по результатам его обсуждения с сотрудниками ДОО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SzPct val="52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"Итогового экспертного отчета о качестве дошкольного образования и деятельности по присмотру и уходу за воспитанниками ДОО" на единой информационной платформе МКДО. 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редний балл – 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" descr=""/>
          <p:cNvPicPr/>
          <p:nvPr/>
        </p:nvPicPr>
        <p:blipFill>
          <a:blip r:embed="rId2"/>
          <a:stretch/>
        </p:blipFill>
        <p:spPr>
          <a:xfrm>
            <a:off x="100080" y="979560"/>
            <a:ext cx="1515960" cy="21844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"/>
          <p:cNvPicPr/>
          <p:nvPr/>
        </p:nvPicPr>
        <p:blipFill>
          <a:blip r:embed="rId3"/>
          <a:stretch/>
        </p:blipFill>
        <p:spPr>
          <a:xfrm>
            <a:off x="1060560" y="977760"/>
            <a:ext cx="1301760" cy="2184480"/>
          </a:xfrm>
          <a:prstGeom prst="rect">
            <a:avLst/>
          </a:prstGeom>
          <a:ln w="0">
            <a:noFill/>
          </a:ln>
        </p:spPr>
      </p:pic>
      <p:pic>
        <p:nvPicPr>
          <p:cNvPr id="99" name="Схема 9" descr=""/>
          <p:cNvPicPr/>
          <p:nvPr/>
        </p:nvPicPr>
        <p:blipFill>
          <a:blip r:embed="rId4"/>
          <a:stretch/>
        </p:blipFill>
        <p:spPr>
          <a:xfrm>
            <a:off x="2328840" y="762120"/>
            <a:ext cx="6686640" cy="53337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0"/>
          <p:cNvSpPr/>
          <p:nvPr/>
        </p:nvSpPr>
        <p:spPr>
          <a:xfrm>
            <a:off x="179280" y="3429000"/>
            <a:ext cx="1944720" cy="11307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ПЕДАГОГИ ДОУ Результаты самооценки ДОО (средний бал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редний балл – 3,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"/>
          <p:cNvPicPr/>
          <p:nvPr/>
        </p:nvPicPr>
        <p:blipFill>
          <a:blip r:embed="rId2"/>
          <a:stretch/>
        </p:blipFill>
        <p:spPr>
          <a:xfrm>
            <a:off x="501480" y="993600"/>
            <a:ext cx="1300320" cy="2183040"/>
          </a:xfrm>
          <a:prstGeom prst="rect">
            <a:avLst/>
          </a:prstGeom>
          <a:ln w="0">
            <a:noFill/>
          </a:ln>
        </p:spPr>
      </p:pic>
      <p:pic>
        <p:nvPicPr>
          <p:cNvPr id="104" name="Схема 9" descr=""/>
          <p:cNvPicPr/>
          <p:nvPr/>
        </p:nvPicPr>
        <p:blipFill>
          <a:blip r:embed="rId3"/>
          <a:stretch/>
        </p:blipFill>
        <p:spPr>
          <a:xfrm>
            <a:off x="2328840" y="762120"/>
            <a:ext cx="6686640" cy="53337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179280" y="3429000"/>
            <a:ext cx="1944720" cy="138996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ЭКСПЕРТ ДОУ Результаты оценки эксперта ДОО (средний бал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3" descr=""/>
          <p:cNvPicPr/>
          <p:nvPr/>
        </p:nvPicPr>
        <p:blipFill>
          <a:blip r:embed="rId2"/>
          <a:stretch/>
        </p:blipFill>
        <p:spPr>
          <a:xfrm>
            <a:off x="-42840" y="-243000"/>
            <a:ext cx="9144000" cy="6465960"/>
          </a:xfrm>
          <a:prstGeom prst="rect">
            <a:avLst/>
          </a:prstGeom>
          <a:ln w="0">
            <a:noFill/>
          </a:ln>
        </p:spPr>
      </p:pic>
      <p:pic>
        <p:nvPicPr>
          <p:cNvPr id="55" name="Схема 4" descr=""/>
          <p:cNvPicPr/>
          <p:nvPr/>
        </p:nvPicPr>
        <p:blipFill>
          <a:blip r:embed="rId3"/>
          <a:stretch/>
        </p:blipFill>
        <p:spPr>
          <a:xfrm>
            <a:off x="122400" y="4535640"/>
            <a:ext cx="8820000" cy="194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549360" y="476280"/>
            <a:ext cx="80452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Прямоугольник 8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7066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-115920" y="633240"/>
            <a:ext cx="4730760" cy="42069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6" descr=""/>
          <p:cNvPicPr/>
          <p:nvPr/>
        </p:nvPicPr>
        <p:blipFill>
          <a:blip r:embed="rId3"/>
          <a:stretch/>
        </p:blipFill>
        <p:spPr>
          <a:xfrm>
            <a:off x="4529160" y="652320"/>
            <a:ext cx="467532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6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1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ff6600"/>
          </a:solidFill>
          <a:ln w="25560">
            <a:solidFill>
              <a:srgbClr val="d7e4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8" descr=""/>
          <p:cNvPicPr/>
          <p:nvPr/>
        </p:nvPicPr>
        <p:blipFill>
          <a:blip r:embed="rId1"/>
          <a:stretch/>
        </p:blipFill>
        <p:spPr>
          <a:xfrm>
            <a:off x="0" y="-109440"/>
            <a:ext cx="9144000" cy="10112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95280" y="800280"/>
            <a:ext cx="8136000" cy="100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тор ДОО - Сбор контекстной информации предусматривае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 структурирование информации о реализации образовательной деятельности и деятельности по присмотру и уходу с занесением ее в электронную форму "Профиль ДОО"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 и структурирование информации о контексте и характеристиках профессиональной деятельности педагогов ДОО с занесением ее в "Анкету педагога ДОО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79280" y="2013120"/>
            <a:ext cx="8136000" cy="100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оценка педагогов предусматр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ие самостоятельной оценки уровня своей квалификации и качества педагогической работы с использованием "Листа самооценки педагога ДОО", построенного на основе системы показателей качества МКДО 202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25092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у данных и формирование сводного отчета по педагогическим работникам ДОО "Отчет о самооценке педагогов ДОО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2"/>
          <a:stretch/>
        </p:blipFill>
        <p:spPr>
          <a:xfrm>
            <a:off x="684360" y="3029040"/>
            <a:ext cx="784692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6748200" cy="37958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2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85690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1T03:44:39Z</dcterms:created>
  <dc:creator>Пользователь</dc:creator>
  <dc:description/>
  <dc:language>en-US</dc:language>
  <cp:lastModifiedBy>User</cp:lastModifiedBy>
  <dcterms:modified xsi:type="dcterms:W3CDTF">2021-10-26T05:40:57Z</dcterms:modified>
  <cp:revision>291</cp:revision>
  <dc:subject/>
  <dc:title>Презентация PowerPoint</dc:title>
</cp:coreProperties>
</file>