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82D-2311-4F9B-98D4-5AF74F3AF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F1E-8857-413E-B133-399E633713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7C8D-E5C3-4A49-AE64-8ABCA9D1CB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84E-14E2-4CC5-B492-A9D70FFECB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8D7-0D7C-41B8-B578-2501EB8192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E1B-35F9-48BD-B287-1C621EFA67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925-4A5B-4AC0-A276-CCBCF5E3EF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7AE-EDE9-4408-AD15-7656ED5508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7A3-8F5E-4CB0-9C56-49BD3CA1AF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AE9-5FF7-457A-9D79-78999642EB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BEC2-984B-40BA-AE27-539778B824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746F-9270-485D-B814-A4ED4EBF25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C50-876F-49E5-8996-6B72CAA9BD7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4A8-3A15-4C5F-98EF-211CFFCC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C99-2D78-4F38-9CDD-F45CF38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C8F-9EF2-43AD-904C-799BAEA5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710-0F59-4772-969D-ED35A05F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7E1-AA01-4E86-B502-D1C99EEE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26A-1ED9-4728-912D-3215276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C93-A568-4393-811D-94391B6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59B-F78E-4B39-BB86-8E2AC489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21A-A6E4-4475-82B7-960DE2A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2A4-F212-4D47-A861-6A4F96E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594-025C-4007-BA0E-40A39D6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1D9-534D-41BB-BA5C-734DFF8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F9E-894B-453C-B8FE-C825A4C80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20680" y="73080"/>
            <a:ext cx="8672400" cy="69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34800" y="6097680"/>
            <a:ext cx="8558280" cy="43632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cc"/>
                </a:solidFill>
                <a:latin typeface="Times New Roman"/>
                <a:ea typeface="Calibri"/>
              </a:rPr>
              <a:t>МОНИТОРИНГ КАЧЕСТВА ДОШКОЛЬНОГО ОБРАЗОВАНИЯ В 2021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784600" y="61920"/>
            <a:ext cx="3071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749160"/>
            <a:ext cx="84978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 качества дошкольного образования и услуг по присмотру и уходу за воспитанниками и обеспечивающей их деятельности ДОО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окументации ДОО с использованием электронной формы «Внутренняя оценка качества документации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реализуемых в ДОО образовательных программ с использованием электронной формы «Внутренняя оценка качества образовательных программ ДОО", в том числе оценку ООП ДО, ОП ДО, АООП ДО, АОП ДО и други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представления информации на официальном интернет-сайте организации с использованием электронной формы «Внутренняя оценка качества представления информации на интернет-сайте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образовательной деятельности и качество присмотра и ухода за воспитанниками в группах ДОО с использованием инструментария МКДО — Шкал комплексного мониторинга качества дошкольного образования детей от 2 месяцев до 7 лет (Шкал МКДО 0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еятельности ДОО в целом, включая качество образовательной деятельности и качество присмотра и ухода за всеми воспитанниками ДОО, обеспечение условий для их реализации, эффективности управления и развитие организации в целом с использованием Шкал МКДО 0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395280" y="874800"/>
            <a:ext cx="799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дошкольного образования в ДО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/ законными представителями воспитанников ДОО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взаимодействия ДОО с родителями / законными представителями воспитанников ДОО (вовлеченности родителей в образовательную деятельность Д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ую оценку удовлетворенности родителей качеством работы ДОО в разрезе областей качества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95280" y="3429000"/>
            <a:ext cx="79930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езависимой оценки качества дошкольного образования в ДОО проводи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анонимной осно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использованием единой информационной платформы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езависимой оценки качества дошкольного образования путем опроса родителей / законных представителей обучающихся ДО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кета родителей / законных представителей воспитанника ДО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чет о результатах независимой оценки качества дошкольного образования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66760" y="1484280"/>
            <a:ext cx="5796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оценк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довлетворенности качеством образовательной деятельности ДОО в разрезе областей качества МКДО предложены 6 уро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. Требуется серьезная работа по повышению качеств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. Качество стремится к базовом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. Базов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. Хороше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уровень. Превосходно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6329520" y="3322800"/>
            <a:ext cx="2814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84360" y="1916280"/>
            <a:ext cx="662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экспертный мониторинг предусматривает 3 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- дистанционны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- выездно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- формирование экспертного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7629480" y="4199040"/>
            <a:ext cx="1305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50920" y="1176480"/>
            <a:ext cx="842472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обработку и структурированный анализ информации о деятельности ДОО, размещенной в открытом доступе на официальном сайте орган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а о внутренней оценке качества дошкольного образования и услуг по присмотру и уходу за воспитанниками ДОО, размещенного на единой информационной платформе МКДО 2021, а также Отчета о самообследовании ДОО, размещенного на официальном сайте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ый анализ и оценивание качества документации ДОО в разрезе областей и показателей качества МКД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й документальной части отчета о результатах экспертного мониторинга качества деятельност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роведению выездного экспертного мониторинга с использованием Шкал МКДО, составление плана выездного экспертного монитор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24000" y="1190520"/>
            <a:ext cx="835164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о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труктурированного экспертного наблюдения за реализацией образовательной деятельности и деятельности по присмотру и уходу в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ализ информации о деятельности ДОО, полученной в ходе структурированного экспертного наблюдения за реализацией образовательной деятельности с использованием Шкал МКДО;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наблюдения за деятельностью ДО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наблюдения за деятельностью ДОО в целом, оценивание качества наблюдаемой деятельности ДОО с использованием Шкал МКДО на основе системы показателей МК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68360" y="1190520"/>
            <a:ext cx="820728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спертного отчета предусматривает: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варительного экспертного отчета о качестве дошкольного образования и деятельности по присмотру и уходу за воспитанниками ДОО по итогам дистанционного и выездного экспертного мониторинг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обратной связи ДОО о результатах экспертного мониторинга, обсуждение предварительного экспертного отчета с руководителем ДОО, координатором МКДО в ДОО, а также коллективом ДОО в случае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аботку экспертного отчета по результатам его обсуждения с сотрудникам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"Итогового экспертного отчета о качестве дошкольного образования и деятельности по присмотру и уходу за воспитанниками ДОО" на единой информационной платформе МКДО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00080" y="979560"/>
            <a:ext cx="151596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1060560" y="977760"/>
            <a:ext cx="1301760" cy="218448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9" descr=""/>
          <p:cNvPicPr/>
          <p:nvPr/>
        </p:nvPicPr>
        <p:blipFill>
          <a:blip r:embed="rId4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179280" y="3429000"/>
            <a:ext cx="1944720" cy="1130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ЕДАГОГИ ДОУ Результаты самооценки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1480" y="993600"/>
            <a:ext cx="1300320" cy="21830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9" descr=""/>
          <p:cNvPicPr/>
          <p:nvPr/>
        </p:nvPicPr>
        <p:blipFill>
          <a:blip r:embed="rId3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79280" y="3429000"/>
            <a:ext cx="1944720" cy="13899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КСПЕРТ ДОУ Результаты оценки эксперта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-42840" y="-243000"/>
            <a:ext cx="9144000" cy="64659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122400" y="4535640"/>
            <a:ext cx="88200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49360" y="476280"/>
            <a:ext cx="8045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115920" y="633240"/>
            <a:ext cx="4730760" cy="420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4529160" y="652320"/>
            <a:ext cx="4675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95280" y="80028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р ДОО - Сбор контекстной информации предусматри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реализации образовательной деятельности и деятельности по присмотру и уходу с занесением ее в электронную форму "Профиль ДОО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контексте и характеристиках профессиональной деятельности педагогов ДОО с занесением ее в "Анкету педагога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9280" y="201312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педагогов предусматр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стоятельной оценки уровня своей квалификации и качества педагогической работы с использованием "Листа самооценки педагога ДОО", построенного на основе системы показателей качества МКДО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данных и формирование сводного отчета по педагогическим работникам ДОО "Отчет о самооценке педагогов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684360" y="3029040"/>
            <a:ext cx="784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748200" cy="3795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3:44:39Z</dcterms:created>
  <dc:creator>Пользователь</dc:creator>
  <dc:description/>
  <dc:language>en-US</dc:language>
  <cp:lastModifiedBy>User</cp:lastModifiedBy>
  <dcterms:modified xsi:type="dcterms:W3CDTF">2021-10-26T05:40:57Z</dcterms:modified>
  <cp:revision>291</cp:revision>
  <dc:subject/>
  <dc:title>Презентация PowerPoint</dc:title>
</cp:coreProperties>
</file>